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CC6E4-35FE-495D-8CC4-773371EE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03BB-E919-4009-99C3-78917198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C7D45-9120-476F-AA5F-100F394D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3C03-5269-4F6D-AFDB-EDAA7706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648E-5184-4376-91AC-587C6A95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887A-9689-4DF8-9CFD-88754883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A11D-CF55-4DDF-9012-223B088C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7DD0-7DD0-42CD-B75A-40B1C44A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9B9C-0226-4687-90F1-05EFD59E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B932-A3B1-446B-9548-EC89427F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2954-1D74-4512-9598-AEF41BF5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960B-26F9-488F-BB64-B32F56E5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8544-7ABF-4846-9A22-FB8AB973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20D2-A810-4397-9149-DEA610EC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08F4-C599-49CF-9439-1B35739E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CA2E-D1E3-4C3C-A535-E0AC0C18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B178-1179-4A47-A5EF-BA096168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B872-D42B-4A51-A49D-FC67BC95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9A6F-EA6C-461D-B344-E8A6AB56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A3525-996D-4590-A766-83A5F7AE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E0CC-E230-4062-B7B5-990E51FD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ECE2-5C94-438B-9CFF-94854586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37AE-C030-4FF0-ADF3-6CC19CF0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0C7F-9BE5-4473-B0D6-91E82D56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3837-C65B-4602-9279-E04CC6C3F2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D3D3-CC02-41B8-AE23-7F6123AAC9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Układ wydalniczy człowiek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dowa i funkc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racowanie:  Irena Bielańs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oroby układu moczoweg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bezmocz (anur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nadmierne wydalanie moczu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- poliu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- moczówka pros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skąpomocz (oligur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moczn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apalenie pęcherza moczowe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apalenie miedniczek nerkowy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palenie ner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wyrodnienie nerk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k nerk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dorozwój ner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rbielowatość ner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ystopia nerk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donercz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ZY WIESZ, Ż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 ciągu doby powstaje około 180 do 200 litrów moczu pierwotne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 ciągu doby powstaje zaledwie 1,5 – 2 litrów moczu ostatecznego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ydajność resorpcji wynosi 9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DPOWIEDZ NA PYTAN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ką funkcję pełni układ wydalnicz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kie znasz narządy układu wydalniczeg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k zbudowana jest nerk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k zbudowany jest i jak funkcjonuje nefr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ki skład ma mocz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kie znasz choroby układu wydalniczeg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UNKCJE UKŁADU WYDALNICZEG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43360" y="2357280"/>
            <a:ext cx="6805800" cy="1244880"/>
            <a:chOff x="1143360" y="2357280"/>
            <a:chExt cx="6805800" cy="1244880"/>
          </a:xfrm>
        </p:grpSpPr>
        <p:cxnSp>
          <p:nvCxnSpPr>
            <p:cNvPr id="104" name="_s343052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5313960" y="2096640"/>
              <a:ext cx="229320" cy="1765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343051"/>
            <p:cNvCxnSpPr>
              <a:stCxn id="108" idx="0"/>
              <a:endCxn id="106" idx="2"/>
            </p:cNvCxnSpPr>
            <p:nvPr/>
          </p:nvCxnSpPr>
          <p:spPr>
            <a:xfrm flipH="1" flipV="1" rot="5400000">
              <a:off x="3548880" y="2096640"/>
              <a:ext cx="229320" cy="1765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" name="_s343047"/>
            <p:cNvSpPr/>
            <p:nvPr/>
          </p:nvSpPr>
          <p:spPr>
            <a:xfrm>
              <a:off x="3752280" y="2357280"/>
              <a:ext cx="1588320" cy="5083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FUNKCJ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343048"/>
            <p:cNvSpPr/>
            <p:nvPr/>
          </p:nvSpPr>
          <p:spPr>
            <a:xfrm>
              <a:off x="1143360" y="3094200"/>
              <a:ext cx="3275280" cy="5079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WYDALNICZ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343049"/>
            <p:cNvSpPr/>
            <p:nvPr/>
          </p:nvSpPr>
          <p:spPr>
            <a:xfrm>
              <a:off x="4673520" y="3094200"/>
              <a:ext cx="3275640" cy="5079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OSMOREGULACYJN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39640" y="4508640"/>
            <a:ext cx="813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YDALANIE -  usuwanie z organizmu zbędnych i szkodliwych produktów metabolizmu, głównie azotowych, powstałych w czasie degradacji aminokwasów i kwasów nukleinowy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SMOREGULACJA – usuwanie z organizmu nadmiaru wody i soli mineral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ARZĄDY  UKŁADU  WYDALNICZEG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20680" y="2328840"/>
            <a:ext cx="6829560" cy="3200400"/>
            <a:chOff x="1120680" y="2328840"/>
            <a:chExt cx="6829560" cy="3200400"/>
          </a:xfrm>
        </p:grpSpPr>
        <p:cxnSp>
          <p:nvCxnSpPr>
            <p:cNvPr id="112" name="_s331830"/>
            <p:cNvCxnSpPr>
              <a:stCxn id="113" idx="3"/>
              <a:endCxn id="114" idx="2"/>
            </p:cNvCxnSpPr>
            <p:nvPr/>
          </p:nvCxnSpPr>
          <p:spPr>
            <a:xfrm flipV="1">
              <a:off x="5428800" y="3471480"/>
              <a:ext cx="872280" cy="182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331828"/>
            <p:cNvCxnSpPr>
              <a:stCxn id="116" idx="3"/>
              <a:endCxn id="114" idx="2"/>
            </p:cNvCxnSpPr>
            <p:nvPr/>
          </p:nvCxnSpPr>
          <p:spPr>
            <a:xfrm flipV="1">
              <a:off x="5428800" y="3471120"/>
              <a:ext cx="872280" cy="1143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331826"/>
            <p:cNvCxnSpPr>
              <a:stCxn id="118" idx="3"/>
              <a:endCxn id="114" idx="2"/>
            </p:cNvCxnSpPr>
            <p:nvPr/>
          </p:nvCxnSpPr>
          <p:spPr>
            <a:xfrm flipV="1">
              <a:off x="5428800" y="3471480"/>
              <a:ext cx="87228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331823"/>
            <p:cNvCxnSpPr>
              <a:stCxn id="114" idx="0"/>
              <a:endCxn id="120" idx="2"/>
            </p:cNvCxnSpPr>
            <p:nvPr/>
          </p:nvCxnSpPr>
          <p:spPr>
            <a:xfrm flipV="1" rot="16200000">
              <a:off x="5303160" y="2017080"/>
              <a:ext cx="229320" cy="1765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331822"/>
            <p:cNvCxnSpPr>
              <a:stCxn id="122" idx="0"/>
              <a:endCxn id="120" idx="2"/>
            </p:cNvCxnSpPr>
            <p:nvPr/>
          </p:nvCxnSpPr>
          <p:spPr>
            <a:xfrm flipH="1" flipV="1" rot="5400000">
              <a:off x="3539160" y="2017800"/>
              <a:ext cx="229320" cy="1764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0" name="_s331818"/>
            <p:cNvSpPr/>
            <p:nvPr/>
          </p:nvSpPr>
          <p:spPr>
            <a:xfrm>
              <a:off x="3201840" y="2328840"/>
              <a:ext cx="266724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UKŁAD WYDALNICZ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331819"/>
            <p:cNvSpPr/>
            <p:nvPr/>
          </p:nvSpPr>
          <p:spPr>
            <a:xfrm>
              <a:off x="1120680" y="3014640"/>
              <a:ext cx="330048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PARZYSTE  NER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331820"/>
            <p:cNvSpPr/>
            <p:nvPr/>
          </p:nvSpPr>
          <p:spPr>
            <a:xfrm>
              <a:off x="4649760" y="3014640"/>
              <a:ext cx="330048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DROGI WYPROWADZAJĄ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331825"/>
            <p:cNvSpPr/>
            <p:nvPr/>
          </p:nvSpPr>
          <p:spPr>
            <a:xfrm>
              <a:off x="2771640" y="3700440"/>
              <a:ext cx="265752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MOCZOW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331827"/>
            <p:cNvSpPr/>
            <p:nvPr/>
          </p:nvSpPr>
          <p:spPr>
            <a:xfrm>
              <a:off x="2771640" y="4386240"/>
              <a:ext cx="265752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PĘCHERZ MOCZOW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331829"/>
            <p:cNvSpPr/>
            <p:nvPr/>
          </p:nvSpPr>
          <p:spPr>
            <a:xfrm>
              <a:off x="2771640" y="5072040"/>
              <a:ext cx="265752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CEWKA MOCZOW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ARZĄDY UKŁADU WYDALNICZEGO - POŁOŻENI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zyste nerk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czow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ęcherz moczow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wka moczow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7720" y="1773360"/>
            <a:ext cx="4023000" cy="40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rka – przekrój podłuż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27236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dowa nefron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913440" cy="52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EFRON – strukturalna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i funkcjonalna jednostka nerk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Kłebuszek nerkowy     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Kanalik proksymalny   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Pętla Henlego               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Kanalik dystalny           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ltrac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orpcja zwrotna obowiązkowa i sekrec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gęszczanie mocz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orpcja zwrotna nadobowiązkow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czowody, pęcherz moczowy, cewka moczow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48036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KŁAD   MOCZ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cz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rwniki moczowe: urobilinogen, urochr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was moczow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reatyni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ny (głównie: 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M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C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P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0:50:36Z</dcterms:created>
  <dc:creator>student15c</dc:creator>
  <dc:description/>
  <dc:language>en-US</dc:language>
  <cp:lastModifiedBy>student15c</cp:lastModifiedBy>
  <dcterms:modified xsi:type="dcterms:W3CDTF">2002-10-31T11:18:48Z</dcterms:modified>
  <cp:revision>14</cp:revision>
  <dc:subject/>
  <dc:title>Układ wydalniczy człowieka</dc:title>
</cp:coreProperties>
</file>